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14A1-41BD-4709-A2F6-184BD6A9F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A1A8-2C03-428C-90C7-ADF886B0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DF08-AAB6-4A3E-B538-8A6616766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08C6-CE79-458A-BC44-4280005A1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BF0F-D579-426D-B5AE-878A0D7F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5E26-9CA1-4D9D-B938-7848548C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7EDD-8687-44A8-90AB-2C3EBD76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5C5D-3206-4426-ADC5-4C8D320F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5882-26AD-499B-83FE-D282B91E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D211-F0C2-460C-939D-5719989A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99EC-7D99-434E-862B-904991AE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59B5-B723-49FD-AFAB-32B7DBE7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C4DE-2B92-4538-BAFB-406CCBF58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00200" y="304920"/>
            <a:ext cx="624852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The Nine Levels of Track Hell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" name="track" descr=""/>
          <p:cNvPicPr/>
          <p:nvPr/>
        </p:nvPicPr>
        <p:blipFill>
          <a:blip r:embed="rId4"/>
          <a:stretch/>
        </p:blipFill>
        <p:spPr>
          <a:xfrm>
            <a:off x="2971800" y="2209680"/>
            <a:ext cx="3429000" cy="2057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2895480" y="5334120"/>
            <a:ext cx="3643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By: Aaron Tarnasky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2286000" y="152280"/>
            <a:ext cx="4876920" cy="13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Level 9: Shin Splint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1" name="shin_spl" descr=""/>
          <p:cNvPicPr/>
          <p:nvPr/>
        </p:nvPicPr>
        <p:blipFill>
          <a:blip r:embed="rId4"/>
          <a:stretch/>
        </p:blipFill>
        <p:spPr>
          <a:xfrm>
            <a:off x="914400" y="2438280"/>
            <a:ext cx="2300400" cy="3505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495680" y="2819520"/>
            <a:ext cx="3749760" cy="253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Those in this level will have to run with shin splints as well as have their shins bea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066680" y="609480"/>
            <a:ext cx="70866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Level 1: Anticipation Before An Event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5" name="hyperventilating" descr=""/>
          <p:cNvPicPr/>
          <p:nvPr/>
        </p:nvPicPr>
        <p:blipFill>
          <a:blip r:embed="rId4"/>
          <a:stretch/>
        </p:blipFill>
        <p:spPr>
          <a:xfrm>
            <a:off x="1371600" y="2438280"/>
            <a:ext cx="2857680" cy="2171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648320" y="247968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2057400"/>
            <a:ext cx="3886200" cy="30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Those in this level will forever feel the nervousness and sickness of having to run an upcoming event, but the event will never come.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905120" y="380880"/>
            <a:ext cx="53337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Level 2: 3200 Meter Run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9" name="lhxjbh-lhxjb0031111westtexasrelay16" descr=""/>
          <p:cNvPicPr/>
          <p:nvPr/>
        </p:nvPicPr>
        <p:blipFill>
          <a:blip r:embed="rId4"/>
          <a:stretch/>
        </p:blipFill>
        <p:spPr>
          <a:xfrm>
            <a:off x="609480" y="2362320"/>
            <a:ext cx="3810240" cy="2847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477120" y="228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70560" y="2174760"/>
            <a:ext cx="3139920" cy="3080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Those in this level must consistently run the fastest two- mile they can, They will get a break, but will then have to run it again and again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057400" y="457200"/>
            <a:ext cx="53341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Level 3: 800 Meter Run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3" name="nedoly5" descr=""/>
          <p:cNvPicPr/>
          <p:nvPr/>
        </p:nvPicPr>
        <p:blipFill>
          <a:blip r:embed="rId4"/>
          <a:stretch/>
        </p:blipFill>
        <p:spPr>
          <a:xfrm>
            <a:off x="228600" y="2590920"/>
            <a:ext cx="4572000" cy="3049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562720" y="2438280"/>
            <a:ext cx="3200400" cy="3506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Those in this level must do the same as those individuals running two miles, but a much faster p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209680" y="304920"/>
            <a:ext cx="4889520" cy="131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Level 4: 400 Meter Run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6" name="DJJohnson" descr=""/>
          <p:cNvPicPr/>
          <p:nvPr/>
        </p:nvPicPr>
        <p:blipFill>
          <a:blip r:embed="rId4"/>
          <a:stretch/>
        </p:blipFill>
        <p:spPr>
          <a:xfrm>
            <a:off x="914400" y="2362320"/>
            <a:ext cx="2590920" cy="3429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648320" y="2666880"/>
            <a:ext cx="3597120" cy="253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Those in this level must do the same as those in the 3200 and 800, but at an extremely fast p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133720" y="380880"/>
            <a:ext cx="5160960" cy="11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Level 5: Pick Up Run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9" name="tiredrunner" descr=""/>
          <p:cNvPicPr/>
          <p:nvPr/>
        </p:nvPicPr>
        <p:blipFill>
          <a:blip r:embed="rId4"/>
          <a:stretch/>
        </p:blipFill>
        <p:spPr>
          <a:xfrm>
            <a:off x="914400" y="2590920"/>
            <a:ext cx="2666880" cy="2174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800600" y="2438280"/>
            <a:ext cx="3733920" cy="253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Those in this level will have to run while consistently slowing down and speeding 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209680" y="380880"/>
            <a:ext cx="5257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Level 6: Speed Workout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2" name="track1_leigh" descr=""/>
          <p:cNvPicPr/>
          <p:nvPr/>
        </p:nvPicPr>
        <p:blipFill>
          <a:blip r:embed="rId4"/>
          <a:stretch/>
        </p:blipFill>
        <p:spPr>
          <a:xfrm>
            <a:off x="380880" y="2590920"/>
            <a:ext cx="4496040" cy="2506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486400" y="2438280"/>
            <a:ext cx="3276720" cy="283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Those in this level will have to run ladder workouts forev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286000" y="380880"/>
            <a:ext cx="4633920" cy="124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Level 7: Hill Workout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5" name="Road-Trip-Sept7-8%20160" descr=""/>
          <p:cNvPicPr/>
          <p:nvPr/>
        </p:nvPicPr>
        <p:blipFill>
          <a:blip r:embed="rId4"/>
          <a:stretch/>
        </p:blipFill>
        <p:spPr>
          <a:xfrm>
            <a:off x="304920" y="2438280"/>
            <a:ext cx="4419360" cy="2959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562720" y="2286000"/>
            <a:ext cx="2682720" cy="301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Those in this level will have to run up a hill that gradually grows steeper and steep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286000" y="228600"/>
            <a:ext cx="4800600" cy="13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Level 8: Calf Cramp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8" name="leg-cramps" descr=""/>
          <p:cNvPicPr/>
          <p:nvPr/>
        </p:nvPicPr>
        <p:blipFill>
          <a:blip r:embed="rId4"/>
          <a:stretch/>
        </p:blipFill>
        <p:spPr>
          <a:xfrm>
            <a:off x="457200" y="2362320"/>
            <a:ext cx="3733920" cy="2800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410080" y="2133720"/>
            <a:ext cx="3200400" cy="301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Those in this level will be subject to calves that  continually lock and cramp tighter and tigh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02:54:18Z</dcterms:created>
  <dc:creator>Linda</dc:creator>
  <dc:description/>
  <dc:language>en-US</dc:language>
  <cp:lastModifiedBy>Linda</cp:lastModifiedBy>
  <dcterms:modified xsi:type="dcterms:W3CDTF">2011-09-15T03:22:52Z</dcterms:modified>
  <cp:revision>2</cp:revision>
  <dc:subject/>
  <dc:title>PowerPoint Presentation</dc:title>
</cp:coreProperties>
</file>